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Lucida Sans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39E228-4D86-4E9A-BC30-13A3F898B08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8DE599-F3D8-4B8A-995B-BA5485003DB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1CF5E3-3959-49A9-8E10-22E1BCE907C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1FE8DE-8E4B-4F88-8325-E9F61408FE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5FA368-25D0-4027-B49B-F89D147407D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E0BAED-F02D-438D-8458-A78C2CD3D0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47B0CC-5C11-4E63-977A-0E1BC31F11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C00-9E85-427D-A5AC-B1AA1DD7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2BD-B705-4CEB-A51C-3355ECF9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501-0BDB-4FC4-8DD7-F01780D6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75F-A5E2-4171-A593-71DF5108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9BB-EDFE-47EE-A705-52FB9BF7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3A7C-F308-49FC-ABFC-F11140A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A859-96B5-4F56-A365-714A690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0A9E-9C6C-442E-923C-B4335FF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E8F0-6787-4A4C-9C48-CD1D8A2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87D5-5474-4A37-93EF-11834EC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BB1-425F-45D2-ADBD-7AED968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81B-64A1-43F4-BEF0-76F4323E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5A2-3C09-4368-A914-79D88B6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B550-9CEA-4C2D-A1A3-87DDCC4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44B-8474-4DED-9E13-ACB6E71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15E-B929-4222-94C4-9D660100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693-76AD-4F47-B7C4-71CA603E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6A1-5E0A-4093-813A-5F9CEC4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8A7-A129-46E9-BEFB-C1AA2A59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E5D-8B37-4A9B-8A91-F4E40039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8DF-589D-4173-80DC-7C40429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AC2-C983-47CA-A84C-A3D95E3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8CA-6229-4EC4-B469-BF190AE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09B-078A-4701-85A1-30C536A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F44-5469-4E3F-BBEA-15C3E79A0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9F0-686A-4E1B-96A1-C1631FB15C30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the page has been parsed/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URL 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Duplicat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Near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duplicat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80000"/>
              </a:lnSpc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me solution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ashing 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5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fter 50 bln pages, we have 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over 500 bln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ach URL is at least 1000 bytes on 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verall we have about 500.000 Tb (=500 Pb) for just the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e.g.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per URL chec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* 5 * 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URL-checks =&gt; 80 years/1PC =&gt; 30gg/100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500 bln UR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about 500 Tbit = 50Tb   </a:t>
            </a:r>
            <a:r>
              <a:rPr b="0" i="1" lang="en-US" sz="1600" spc="-1" strike="noStrike">
                <a:solidFill>
                  <a:srgbClr val="333399"/>
                </a:solidFill>
                <a:latin typeface="Lucida Sans"/>
              </a:rPr>
              <a:t>[cfr. 1/1000 hashing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9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2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Immagine 3" descr=""/>
          <p:cNvPicPr/>
          <p:nvPr/>
        </p:nvPicPr>
        <p:blipFill>
          <a:blip r:embed="rId2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8" name="Immagine 3" descr=""/>
          <p:cNvPicPr/>
          <p:nvPr/>
        </p:nvPicPr>
        <p:blipFill>
          <a:blip r:embed="rId2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4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t needs communication bwt coordinator/crawl threa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,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need of coordinator and thus commun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crawl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500880" y="162864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crawl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rawler x man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 via hash function ID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crawl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crawl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0"/>
          <p:cNvGrpSpPr/>
          <p:nvPr/>
        </p:nvGrpSpPr>
        <p:grpSpPr>
          <a:xfrm>
            <a:off x="4143240" y="4302000"/>
            <a:ext cx="4954320" cy="2286000"/>
            <a:chOff x="4143240" y="4302000"/>
            <a:chExt cx="4954320" cy="2286000"/>
          </a:xfrm>
        </p:grpSpPr>
        <p:sp>
          <p:nvSpPr>
            <p:cNvPr id="165" name="Text Box 8"/>
            <p:cNvSpPr/>
            <p:nvPr/>
          </p:nvSpPr>
          <p:spPr>
            <a:xfrm>
              <a:off x="4318200" y="43196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an old server to the new one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4143240" y="4302000"/>
              <a:ext cx="4954320" cy="2286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the page new?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Bloom Filter, 1970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reate a binary array B[1,m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family of k hash functions that map a key (URL) to a position (integer)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45726" r="0" b="0"/>
          <a:stretch/>
        </p:blipFill>
        <p:spPr>
          <a:xfrm>
            <a:off x="1187280" y="4365720"/>
            <a:ext cx="6181920" cy="120492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7"/>
          <p:cNvSpPr/>
          <p:nvPr/>
        </p:nvSpPr>
        <p:spPr>
          <a:xfrm>
            <a:off x="34920" y="6021360"/>
            <a:ext cx="6121440" cy="792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: No need to store keys, less comple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≈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*X bln bytes </a:t>
            </a:r>
            <a:r>
              <a:rPr b="0" i="1" lang="it-IT" sz="2000" spc="-1" strike="noStrike">
                <a:solidFill>
                  <a:srgbClr val="ffffff"/>
                </a:solidFill>
                <a:latin typeface="Lucida Sans"/>
              </a:rPr>
              <a:t>versus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.000 bln chars/by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6300720" y="602136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Cons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CasellaDiTesto 1"/>
          <p:cNvSpPr/>
          <p:nvPr/>
        </p:nvSpPr>
        <p:spPr>
          <a:xfrm>
            <a:off x="642240" y="42022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CasellaDiTesto 2"/>
          <p:cNvSpPr/>
          <p:nvPr/>
        </p:nvSpPr>
        <p:spPr>
          <a:xfrm>
            <a:off x="6353280" y="4294080"/>
            <a:ext cx="29664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CasellaDiTesto 9"/>
          <p:cNvSpPr/>
          <p:nvPr/>
        </p:nvSpPr>
        <p:spPr>
          <a:xfrm>
            <a:off x="6062040" y="48988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k=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38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5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in the same host (hence they are close in lexicographic order - locality)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5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06360" y="3933720"/>
            <a:ext cx="852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ost of the hyperlinks from URL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in the same domai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lose to each other in the lexicographically sorted order, and thus they ge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 them via gap-encoding and variable-length represent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 &amp; Similar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3070080" y="3573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119160" y="3588480"/>
            <a:ext cx="28191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the lexicographic order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y tend to share many hyperlin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≤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236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37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52916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3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28800" y="4508640"/>
            <a:ext cx="407484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74840" y="531036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ounded Rectangle 5"/>
          <p:cNvSpPr/>
          <p:nvPr/>
        </p:nvSpPr>
        <p:spPr>
          <a:xfrm>
            <a:off x="108000" y="5541840"/>
            <a:ext cx="67690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inimize prob. error for k = (m/n) ln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ttangolo arrotondato 1"/>
          <p:cNvSpPr/>
          <p:nvPr/>
        </p:nvSpPr>
        <p:spPr>
          <a:xfrm>
            <a:off x="6516720" y="1752480"/>
            <a:ext cx="2448000" cy="1316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/n = 30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= 4 * 10</a:t>
            </a:r>
            <a:r>
              <a:rPr b="0" lang="it-IT" sz="2400" spc="-1" strike="noStrike" baseline="42000">
                <a:solidFill>
                  <a:srgbClr val="ffffff"/>
                </a:solidFill>
                <a:latin typeface="Lucida San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00364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788000" y="4437000"/>
            <a:ext cx="3925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= 0.62</a:t>
            </a:r>
            <a:r>
              <a:rPr b="0" lang="it-IT" sz="2400" spc="-1" strike="noStrike" baseline="44000">
                <a:solidFill>
                  <a:srgbClr val="ff0000"/>
                </a:solidFill>
                <a:latin typeface="Lucida Sans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ounded Rectangle 5"/>
          <p:cNvSpPr/>
          <p:nvPr/>
        </p:nvSpPr>
        <p:spPr>
          <a:xfrm>
            <a:off x="179280" y="6381720"/>
            <a:ext cx="856944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dvantageous when (m/n)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« (key-length in bits + log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2" descr="Immagine che contiene screenshot&#10;&#10;Descrizione generata automaticamente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3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7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0" name="Immagine 3" descr=""/>
          <p:cNvPicPr/>
          <p:nvPr/>
        </p:nvPicPr>
        <p:blipFill>
          <a:blip r:embed="rId2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Immagine 3" descr=""/>
          <p:cNvPicPr/>
          <p:nvPr/>
        </p:nvPicPr>
        <p:blipFill>
          <a:blip r:embed="rId2"/>
          <a:stretch/>
        </p:blipFill>
        <p:spPr>
          <a:xfrm>
            <a:off x="44280" y="0"/>
            <a:ext cx="905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09-22T10:59:56Z</dcterms:modified>
  <cp:revision>1262</cp:revision>
  <dc:subject/>
  <dc:title>Web Algorithmics</dc:title>
</cp:coreProperties>
</file>